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C02-8177-47BA-AB8A-90181BC7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1F1-9823-4BFE-836D-F9024C59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992-17EB-4566-AA3D-AF71EFE6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61D-5889-4371-9BEC-7868DA71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73C3-FFBE-4906-B99B-B1E83278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8ACB-A409-4576-A4AE-FCE1AB6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4A6-5583-4229-A786-BFF3B51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36B8-14AD-40D3-AE89-B58D8BF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BD0-BE3D-4813-9B83-F4F56C3F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38AB-4406-4C2A-87D6-19DD07A2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100-A3EE-4797-977E-25BF5EA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C91-B7C8-464A-B20D-082A94D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5A7C-723A-4EDE-843A-AAF7002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66E-D414-4851-925F-CE31B71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1A10-3B3F-4831-8ACA-4DDBD07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DA0F-2DDF-479E-AAF4-7BD92ACA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FA6-8D28-45E3-8B44-3A719BFF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ECE-60C7-435A-9FA9-11B6D5D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3A4-BBF3-41F5-AD06-C403D966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D96-7AC3-4A83-8C16-B58550A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41C-9B93-450C-AF57-3DF301C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33A-3EBE-4A66-89F3-A20A603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B20-40BB-4A50-90ED-4576EFE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B06-5E62-4D51-A634-6089F51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A99E-94D2-449B-89F9-ECA3FFB53FD1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902-2F2C-4C7F-9576-32CF65683F65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azdasagifelsooktatas.lap.hu/egyetemek/15662675" TargetMode="External"/><Relationship Id="rId2" Type="http://schemas.openxmlformats.org/officeDocument/2006/relationships/hyperlink" Target="http://gazdasagifelsooktatas.lap.hu/foiskolak/15662667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5200"/>
            </a:b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KÖZGAZDASÁG-TUDOMÁNYI SZAK-TÁJÉKOZTATÁS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4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2. MTA Közgazdaság- és Regionális Tudományi Kutatóközpont Világgazdasági Intézet </a:t>
            </a:r>
            <a:br>
              <a:rPr sz="2800"/>
            </a:b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http://www.vki.hu/intezet.shtml</a:t>
            </a:r>
            <a:endParaRPr b="0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4114800"/>
            <a:ext cx="175248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3. Magyar Közgazdaságtudományi Egyesület</a:t>
            </a:r>
            <a:br>
              <a:rPr sz="3200"/>
            </a:b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http://www.mktudegy.hu/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81080" y="1600200"/>
            <a:ext cx="2286000" cy="533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4. GKI Gazdaságkutató Zrt. </a:t>
            </a:r>
            <a:r>
              <a:rPr b="0" lang="hu-HU" sz="4000" spc="-1" strike="noStrike">
                <a:solidFill>
                  <a:srgbClr val="ff0000"/>
                </a:solidFill>
                <a:latin typeface="Verdana"/>
              </a:rPr>
              <a:t>http://www.gki.hu/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4191120"/>
            <a:ext cx="2666880" cy="160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114800"/>
            <a:ext cx="304776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GKI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szakosodott leányvállalata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1523880" y="4876920"/>
            <a:ext cx="297180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572000"/>
            <a:ext cx="4495680" cy="1620000"/>
          </a:xfrm>
          <a:prstGeom prst="rect">
            <a:avLst/>
          </a:prstGeom>
          <a:solidFill>
            <a:srgbClr val="3333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-eki.hu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energia.hu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.hu/gki-tanacsado-kf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2.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Verdana"/>
              </a:rPr>
              <a:t>Felsőoktatási intézmények: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 gazdasagifelsooktatas.lap.hu/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Egyetemek: </a:t>
            </a:r>
            <a:r>
              <a:rPr b="0" lang="hu-HU" sz="32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http://gazdasagifelsooktatas.lap.hu/egyetemek/15662675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Főiskolák: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9999"/>
                </a:solidFill>
                <a:uFillTx/>
                <a:latin typeface="Verdana"/>
                <a:hlinkClick r:id="rId2"/>
              </a:rPr>
              <a:t>http://gazdasagifelsooktatas.lap.hu/foiskolak/15662667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3.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7086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Verdana"/>
              </a:rPr>
              <a:t>Könyvkiadá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http://gazdasagifelsooktatas.lap.hu/szakmai_konyvkiadok/15697138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1. ALAP-FOGALMAK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fogalma 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közgazdaságtan olyan társadalomtudomány, amely a gazdasági rendszerrel, vagyis a javak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egtermelésével,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losztásával,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értékesítésé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gyasztásával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glalkozik.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ága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Mikroökonómia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: az egyének, emberek, háztartások termelésével, értékesítésével, a jövedelme elosztásával és fogyasztásával foglalkozik.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Makroökonómia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: az országok gazdaságának termelésével, értékesítésével, a jövedelem elosztásával és a fogyasztás kérdéseivel foglalkozó ág.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ifejezés etimológiája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„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ökonómia”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= görög eredetű kifejezé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áztartás és birtok,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(város)állam adminisztrációján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yagi ügyei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részterülete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5812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akroökonómi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ikroökonómi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Agrár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Államháztartás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Fejlődés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Gazdaságpolitik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Információ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Jóléti köz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Környezet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Közösségi gazdaságta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atematikai köz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unka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Nemzetközi 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Pénzügy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Regionális 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Vállalat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Viselkedésgazdaságta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102960"/>
            <a:ext cx="7238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Kapcsolódó tudományok és segédtudományok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5812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Játékelmél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Kereskedelmi jog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Gazdaságföldrajz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Gazdaságtörtén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Marketing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Matematik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Ökonometri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Politikatudomány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1828440"/>
            <a:ext cx="35053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Pszichológi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Rendszerelmél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tatisztik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ámvitel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ervezés-tudomány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ociológia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1. 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utatóintézetek, szakmai közösségek: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agyar Tudományos Akadémia Közgazdaság- és Regionális Tudományi Kutatóközpont Közgazdaság-tudományi Intézete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econ.core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. MTA Közgazdaság- és Regionális Tudományi Kutatóközpont Világgazdasági Intézet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vki.hu/intezet.shtm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3. Magyar Közgazdaságtudományi Egyesület: http://www.mktudegy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4. GKI Gazdaságkutató Zrt.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gki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1. MTA Közgazdaság- és Regionális Tudományi Kutatóközpont Közgazdaság-tudományi Intézete</a:t>
            </a:r>
            <a:br>
              <a:rPr sz="2400"/>
            </a:b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http://www.econ.core.hu/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3048120"/>
            <a:ext cx="1524240" cy="609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1T10:03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